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7938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79380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2160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2160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14300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6858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47636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3333cc"/>
                </a:solidFill>
                <a:latin typeface="Tahoma"/>
                <a:ea typeface="隶书"/>
              </a:rPr>
              <a:t>申请者基本情况</a:t>
            </a:r>
            <a:endParaRPr b="0" lang="en-US" sz="5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42560" y="1988640"/>
            <a:ext cx="73090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姓    名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导    师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学    科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论文题目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116000" y="5445000"/>
            <a:ext cx="795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260360" y="7174080"/>
            <a:ext cx="53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260360" y="7174080"/>
            <a:ext cx="53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828800" y="4572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3333cc"/>
                </a:solidFill>
                <a:latin typeface="Tahoma"/>
                <a:ea typeface="隶书"/>
              </a:rPr>
              <a:t>在读期间主要成果</a:t>
            </a:r>
            <a:endParaRPr b="0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8720" y="1846440"/>
            <a:ext cx="7632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作者发表文章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[5]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满足申请博士学位基本要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1260360" y="7174080"/>
            <a:ext cx="53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828800" y="4572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3333cc"/>
                </a:solidFill>
                <a:latin typeface="Tahoma"/>
                <a:ea typeface="隶书"/>
              </a:rPr>
              <a:t>论文评阅结果</a:t>
            </a:r>
            <a:endParaRPr b="0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844640"/>
          <a:ext cx="7993080" cy="3946680"/>
        </p:xfrm>
        <a:graphic>
          <a:graphicData uri="http://schemas.openxmlformats.org/drawingml/2006/table">
            <a:tbl>
              <a:tblPr/>
              <a:tblGrid>
                <a:gridCol w="1089000"/>
                <a:gridCol w="847800"/>
                <a:gridCol w="847800"/>
                <a:gridCol w="847440"/>
                <a:gridCol w="847800"/>
                <a:gridCol w="847800"/>
                <a:gridCol w="847800"/>
                <a:gridCol w="847800"/>
                <a:gridCol w="969840"/>
              </a:tblGrid>
              <a:tr h="107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论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选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文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综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理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基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科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创新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研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成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写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能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综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评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专家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专家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专家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116000" y="5445000"/>
            <a:ext cx="795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260360" y="7174080"/>
            <a:ext cx="53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547640" y="41436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3333cc"/>
                </a:solidFill>
                <a:latin typeface="Tahoma"/>
                <a:ea typeface="隶书"/>
              </a:rPr>
              <a:t>论文答辩委员会组成</a:t>
            </a:r>
            <a:endParaRPr b="0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26920" y="1976400"/>
          <a:ext cx="7578720" cy="3900600"/>
        </p:xfrm>
        <a:graphic>
          <a:graphicData uri="http://schemas.openxmlformats.org/drawingml/2006/table">
            <a:tbl>
              <a:tblPr/>
              <a:tblGrid>
                <a:gridCol w="717480"/>
                <a:gridCol w="1104840"/>
                <a:gridCol w="1179720"/>
                <a:gridCol w="1136520"/>
                <a:gridCol w="3440160"/>
              </a:tblGrid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职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姓  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职  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是否博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工 作 单 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主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秘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260360" y="7174080"/>
            <a:ext cx="53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547640" y="41436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3333cc"/>
                </a:solidFill>
                <a:latin typeface="Tahoma"/>
                <a:ea typeface="隶书"/>
              </a:rPr>
              <a:t>论文答辩委员会决议</a:t>
            </a:r>
            <a:endParaRPr b="0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36560" y="1828800"/>
            <a:ext cx="766908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北工业大学学位授予实施细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规定，答辩委员会于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0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8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组织答辩会审议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志申请博士学位的有关材料，并采取无记名投票表决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票同意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票不同意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票弃权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委员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为是一篇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X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平的博士学位论文，建议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授予、不授予）该同志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X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科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博士学位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3333cc"/>
                </a:solidFill>
                <a:latin typeface="Tahoma"/>
                <a:ea typeface="隶书"/>
              </a:rPr>
              <a:t>评阅意见修改情况</a:t>
            </a:r>
            <a:endParaRPr b="0" lang="en-US" sz="5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1557360"/>
          <a:ext cx="8424720" cy="4967280"/>
        </p:xfrm>
        <a:graphic>
          <a:graphicData uri="http://schemas.openxmlformats.org/drawingml/2006/table">
            <a:tbl>
              <a:tblPr/>
              <a:tblGrid>
                <a:gridCol w="1092240"/>
                <a:gridCol w="3332160"/>
                <a:gridCol w="4000320"/>
              </a:tblGrid>
              <a:tr h="749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专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评阅意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简要叙述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修改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6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692280"/>
            <a:ext cx="7793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3333cc"/>
                </a:solidFill>
                <a:latin typeface="Tahoma"/>
                <a:ea typeface="隶书"/>
              </a:rPr>
              <a:t>答辩意见修改情况</a:t>
            </a:r>
            <a:endParaRPr b="0" lang="en-US" sz="5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87280" y="1628640"/>
          <a:ext cx="7162920" cy="4525920"/>
        </p:xfrm>
        <a:graphic>
          <a:graphicData uri="http://schemas.openxmlformats.org/drawingml/2006/table">
            <a:tbl>
              <a:tblPr/>
              <a:tblGrid>
                <a:gridCol w="3529080"/>
                <a:gridCol w="3633840"/>
              </a:tblGrid>
              <a:tr h="682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委员意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简要叙述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修改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3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3333cc"/>
                </a:solidFill>
                <a:latin typeface="Tahoma"/>
                <a:ea typeface="隶书"/>
              </a:rPr>
              <a:t>分委会意见修改情况</a:t>
            </a:r>
            <a:endParaRPr b="0" lang="en-US" sz="5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054320"/>
                <a:gridCol w="4175280"/>
              </a:tblGrid>
              <a:tr h="682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分委会委员意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简要叙述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修改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3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260360" y="7174080"/>
            <a:ext cx="53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547640" y="41436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3333cc"/>
                </a:solidFill>
                <a:latin typeface="Tahoma"/>
                <a:ea typeface="隶书"/>
              </a:rPr>
              <a:t>分委会评审结论</a:t>
            </a:r>
            <a:endParaRPr b="0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55640" y="1828800"/>
            <a:ext cx="76500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北工业大学学位授予实施细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规定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X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学院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评定分委员会于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01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对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X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科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志进行评议，并无记名投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票结果：分委员会共计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实到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票建议授予博士学位，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票建议不授予博士学位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票弃权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投票结果，本分委员会建议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授予、不授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志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XX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科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XX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博士学位，提请河北工业大学学位评定委员会审批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0:16:12Z</dcterms:created>
  <dc:creator>曾珍香</dc:creator>
  <dc:description/>
  <dc:language>en-US</dc:language>
  <cp:lastModifiedBy>吴迪</cp:lastModifiedBy>
  <cp:lastPrinted>2017-04-25T07:59:08Z</cp:lastPrinted>
  <dcterms:modified xsi:type="dcterms:W3CDTF">2020-10-20T06:32:30Z</dcterms:modified>
  <cp:revision>133</cp:revision>
  <dc:subject/>
  <dc:title>基本情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072</vt:lpwstr>
  </property>
  <property fmtid="{D5CDD505-2E9C-101B-9397-08002B2CF9AE}" pid="3" name="KSORubyTemplateID">
    <vt:lpwstr>2</vt:lpwstr>
  </property>
</Properties>
</file>